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D793D-8D34-4CFA-904E-86486CC35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2BF44-B7DA-4546-AF5A-05BD620CA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5B733C-216D-4D02-8EF9-C4897B990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CEA2E0-5471-4021-A618-1AD7F4EF3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B62649-9DE3-45BB-BED5-6F08E104B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260773-43FA-4AF1-945D-1FC86051E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447B79-4375-4C4F-A0D3-61F236D60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DDFE6E-5A35-41B3-B73F-50379D2C3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AD9B4B-55BB-4A43-82FE-2E3BD958B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0078DA-A0A8-4FCF-A09A-1DEF84730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7FD758-7B69-4526-95D7-6F4C018A3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E863D6-2BB8-4D90-8793-541571994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0367F-58E5-4364-9BDF-D34808517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8B1194-3D0A-4D0E-9044-D21085094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355F29-69CB-4A97-ACC1-CBDC848C5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1A6D2A-49EE-4EF1-BF2A-C3B5A0AA7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1E0D70-9A56-406A-8FB0-166938913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BD3CDB-A4DC-481C-BDB0-45BFCE216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1EC5D6-FE28-46C2-B400-202DAEF45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63134C-17E9-4A64-9BA8-FCFEAC00C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2745B7-E94C-4229-AC0D-473F51399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C9BCA3-24DA-401C-9CF3-293DC4430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FF46A5-088C-4E82-BB9E-1098B511F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15DA2-C3F8-4D69-B481-81258D87A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DBA61B-A539-44C2-84CB-F2C717632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BB4E7E-7C01-4454-AF73-C923659EF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7BFF37-D156-408F-8BC4-D7ED40917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1C446A-7803-4A0D-9134-984B872A2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097716-F222-4EE6-828C-660167D9D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5FA7A8-5913-41AB-9514-70C02210F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DB70C7-9575-4423-A134-5D37A7F12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7DF500-B34E-4C9B-B34D-B2A6B1F14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6DD89-61F3-43B1-B178-58E33CBB1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4E9EF6-FBC7-4C0A-96AF-DFD5C51F9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412D61-6DB8-4106-AB93-C9A4F81C0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53A35D-A80D-4E82-9262-651561BFE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97B98D-C4DA-432B-ACBA-1F526782A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68FD77-6B02-45A5-B81A-7124538A7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8A061FB-29DA-42AA-99E4-6C62BE4E9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066643C-E195-4C7B-83E3-FDC5917E8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51C0765-FF5E-4299-A192-14D74FD33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44D6467-2253-4C68-BCAC-FB80EABE3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9F98547-F1A6-4570-85C5-0EE8EEF0F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228F5-530F-46D3-AF52-41C8E0E9D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17F4205-DF7A-44DE-B369-41D7EE526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D47526C-D0C4-4925-8888-969C725CF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DEF472-05BD-4022-B478-5E4C2F710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E16043-1F6C-4F1B-91DE-DD0764330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DA7F693-C7C2-43C7-91F1-4A256009D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FAB6E4B-36D1-4D9C-A049-4EF59F799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D5FDB64-0282-4F3B-AAEB-0B4D47F91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E9A322-C2DA-4B47-85BC-A5D894CB5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1AF47A-3F26-46A6-B4EB-7FF154067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2CBD73-4FCE-432B-8406-F51EE4181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CB9A2-7CF1-4B13-BB3E-3BAC8C66A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EE3631-23FB-43D6-B91C-B65E587DE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DBEC54-5D95-44AD-8572-0C8254D11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F065FF-2DE8-44A3-8782-763B3F354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9892F2-5F5F-4495-918D-664F9862F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2E60ED-23E3-497E-9268-39047ACBC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132484-2AFB-437B-88AC-23BFE2B35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58E1D0-69FB-4F53-B540-FB057A0D0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B67290-29FF-4EF7-A8A8-2C09F8896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92D96D-2417-4707-BF41-6E05F71AB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1EE9585-C3EE-42AD-ACC6-AF535BA59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1A6F4-93FA-4705-B9B9-A306CABD1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C038106-3936-4B17-8A3E-F08E654CC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80D371B-75F5-4EA5-B9B2-532617374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68DF0C0-9FD9-422E-94B7-33558925E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ABFE7A3-31ED-46ED-AB78-E9DC0A9DB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97A3154-4F5D-43E0-B469-BF944D5A9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EF3ACD8-676A-4223-B6EE-78376C9A5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A03C7F6-54E2-45B8-BA71-8B74411D5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B6F6552-9763-4B30-A88E-7092456E5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2922954-9942-4EB6-A8CF-6BCD7D7BE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A67B2F0-5E05-4C7B-9A4D-7E7326D5F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8550E-7028-48F4-8E4A-A60617532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A047F8F-F10F-4F7E-B9CC-1A952D762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27A336-CA9E-466F-B4B1-97A24465A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B5F4BD-AD74-4522-B629-5CC45FAE1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0663D2-2786-4886-93BB-642E6E1FA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0D300C-CBD5-40D1-A721-D0595CB5C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2AC209-E433-4ADA-9D55-F154D20A0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E81F05-4938-4206-8A88-5CD16CC2F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58591D-6750-4FDA-93D3-19C89E0AD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2D9A6C-9D8B-4B04-B4B5-0889E7541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8CF1CD-FDCE-4A58-967C-3AAECC9D4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16FBD-6046-420F-874F-75C831A19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354C29-704F-4D8F-9F1D-3EB6EF3E9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DCC4B2-122D-4571-A7AC-6382EFD3C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3511BE-EB44-4B1C-9B64-502AE9C3D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DC5DA8-1CD4-4A95-8CCB-251241BDE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37F04D-DD7F-45F0-95B9-29BA2E2B1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4D24DC-AC0E-4A9A-BEBE-FD8814797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203757-45C6-4917-9948-92EA7A433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FFBBAF-9B26-470E-AFED-E9905AF46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1C57DE-7A63-4D3F-B664-C033F939D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7F30DB-9C96-4211-BF4B-B036654B1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39693-A659-4277-88A4-9879AC3BC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9057E3-3108-4C80-B756-CD774CBF1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05C0F3-358B-4673-93A7-D3CBCAD5B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0B6362-43D3-4278-9047-A467B7021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C589DA-AEE7-4191-B884-80D30998E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B15A5B-3E42-4A12-92C6-3DD90CB5F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46DAC8-E272-4720-BBDF-4721047FF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3FBE4F-E9AA-4805-A54E-1AFE9F239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7632B6-F149-4619-911A-BE3E638CB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3B90B8-693C-45E9-907F-1A2657F63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3B30EB-9318-4336-A1D3-8DDE8BF01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87522-04C0-434D-B85D-C9726C804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363754-4DC9-483B-9169-E7032486C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1A3737-D7DE-4397-95AD-F4E86EAFA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C89DEB-EC34-48BE-A1DC-0C58D5FA8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BB21E4-8EF4-4B65-8655-1261025BE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6D391B-F95D-49FC-974F-6F38BCEF2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DFCFE4-1C65-42E5-BF13-6D6D6CA56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8F2BCE-7BFC-43C4-A2B4-41BDFBE43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A49A95-7558-44C1-9B1D-A053EFF44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198032-14E7-447A-9E57-A25BFAD6D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BA60DB-4F69-4BCF-A8DD-D403FE0E7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4B11C-72FC-4C39-A835-D9DF390A670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3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484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d6edee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ec1c2"/>
                </a:gs>
                <a:gs pos="100000">
                  <a:srgbClr val="d6edee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ec1c2"/>
                </a:gs>
                <a:gs pos="100000">
                  <a:srgbClr val="d6edee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aeeef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aeeef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 type="dt" idx="28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 type="ftr" idx="29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 type="sldNum" idx="30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95DC0-05A0-41C4-8E71-BBF67F6224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F6D70-8B57-43E1-AE54-E2CDE9652A7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a6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ldNum" idx="8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0F122-6A15-446F-A4D7-70B3B6B966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24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25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d9668"/>
                  </a:gs>
                  <a:gs pos="100000">
                    <a:srgbClr val="bfa67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d9668"/>
                  </a:gs>
                  <a:gs pos="100000">
                    <a:srgbClr val="bfa673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b875d"/>
                  </a:gs>
                  <a:gs pos="100000">
                    <a:srgbClr val="bfa67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bfa6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fa673"/>
                  </a:gs>
                  <a:gs pos="100000">
                    <a:srgbClr val="a7916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30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bfa673"/>
                </a:gs>
                <a:gs pos="100000">
                  <a:srgbClr val="a18c6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f6737"/>
                </a:gs>
                <a:gs pos="100000">
                  <a:srgbClr val="bfa67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2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6e3aa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9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847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8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6e3aa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8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7847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a6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1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72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73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d9668"/>
                  </a:gs>
                  <a:gs pos="100000">
                    <a:srgbClr val="bfa67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d9668"/>
                  </a:gs>
                  <a:gs pos="100000">
                    <a:srgbClr val="bfa673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b875d"/>
                  </a:gs>
                  <a:gs pos="100000">
                    <a:srgbClr val="bfa67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bfa6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fa673"/>
                  </a:gs>
                  <a:gs pos="100000">
                    <a:srgbClr val="a7916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78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bfa673"/>
                </a:gs>
                <a:gs pos="100000">
                  <a:srgbClr val="a18c6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f6737"/>
                </a:gs>
                <a:gs pos="100000">
                  <a:srgbClr val="bfa67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6e3aa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dt" idx="10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ftr" idx="11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sldNum" idx="12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A1823-C053-4D82-B06F-7B36EC65EE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22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b3b095"/>
                </a:gs>
                <a:gs pos="100000">
                  <a:srgbClr val="b0ac9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dddc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dddc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dddc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dddcc5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dddcc5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50000">
                  <a:srgbClr val="a9a78b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9d9b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dddcc5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dddc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c9c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c9c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50000">
                  <a:srgbClr val="c1bf9f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b0ac90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50000">
                  <a:srgbClr val="dddcc5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dddc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50000">
                  <a:srgbClr val="c1bf9f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dddcc5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dddc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b0ac9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b0ac90"/>
                </a:gs>
                <a:gs pos="50000">
                  <a:srgbClr val="b1ad92"/>
                </a:gs>
                <a:gs pos="100000">
                  <a:srgbClr val="b0ac9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905c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03A45-F031-4D34-9BCD-3BFB477D6E8E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 type="dt" idx="1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28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b3b095"/>
                </a:gs>
                <a:gs pos="100000">
                  <a:srgbClr val="b0ac9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dddc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dddc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dddc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dddcc5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dddcc5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50000">
                  <a:srgbClr val="a9a78b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9d9b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dddcc5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dddc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c9c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c9c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50000">
                  <a:srgbClr val="c1bf9f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b0ac90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50000">
                  <a:srgbClr val="dddcc5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dddc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50000">
                  <a:srgbClr val="c1bf9f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dddcc5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dddc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b0ac9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b0ac90"/>
                </a:gs>
                <a:gs pos="50000">
                  <a:srgbClr val="b1ad92"/>
                </a:gs>
                <a:gs pos="100000">
                  <a:srgbClr val="b0ac9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767B6-1D15-482D-875A-0C26829F8953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5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346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86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000086"/>
                </a:gs>
                <a:gs pos="100000">
                  <a:srgbClr val="0000a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e7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e7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81C8E-B94B-46B0-9FB8-FD57F134AAFF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9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390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000086"/>
                </a:gs>
                <a:gs pos="100000">
                  <a:srgbClr val="00007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000086"/>
                </a:gs>
                <a:gs pos="100000">
                  <a:srgbClr val="0000a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2" name="PlaceHolder 1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B9D3E-9D3A-47A8-BE0E-CD9B7D74E30E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e701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e701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3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434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ec1c2"/>
                </a:gs>
                <a:gs pos="100000">
                  <a:srgbClr val="d6edee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aeeef"/>
                </a:gs>
                <a:gs pos="100000">
                  <a:srgbClr val="d6ede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daeeef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ec1c2"/>
                </a:gs>
                <a:gs pos="100000">
                  <a:srgbClr val="d6edee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aeeef"/>
                </a:gs>
                <a:gs pos="100000">
                  <a:srgbClr val="d6edee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42" name="PlaceHolder 1"/>
          <p:cNvSpPr>
            <a:spLocks noGrp="1"/>
          </p:cNvSpPr>
          <p:nvPr>
            <p:ph type="dt" idx="25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ftr" idx="26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 type="sldNum" idx="27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29A1E-B208-469F-ABDF-6BD6AE1241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7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9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Dangerous tornadoes!</a:t>
            </a:r>
            <a:r>
              <a:rPr b="0" lang="en-US" sz="5400" spc="-1" strike="noStrike">
                <a:solidFill>
                  <a:srgbClr val="ccffff"/>
                </a:solidFill>
                <a:latin typeface="Tahoma"/>
              </a:rPr>
              <a:t> </a:t>
            </a:r>
            <a:endParaRPr b="0" lang="en-US" sz="5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subTitle"/>
          </p:nvPr>
        </p:nvSpPr>
        <p:spPr>
          <a:xfrm>
            <a:off x="1371600" y="190476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y: charlie,davon,kourtnie,victor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32" name="" descr=""/>
          <p:cNvPicPr/>
          <p:nvPr/>
        </p:nvPicPr>
        <p:blipFill>
          <a:blip r:embed="rId1"/>
          <a:stretch/>
        </p:blipFill>
        <p:spPr>
          <a:xfrm>
            <a:off x="1447920" y="2514600"/>
            <a:ext cx="609588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a6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6e3aa"/>
                </a:solidFill>
                <a:latin typeface="Garamond"/>
              </a:rPr>
              <a:t>What are tornadoes?</a:t>
            </a: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Tornadoes are nature’s most violet storms!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535" name="" descr=""/>
          <p:cNvPicPr/>
          <p:nvPr/>
        </p:nvPicPr>
        <p:blipFill>
          <a:blip r:embed="rId1"/>
          <a:stretch/>
        </p:blipFill>
        <p:spPr>
          <a:xfrm>
            <a:off x="1371600" y="2438280"/>
            <a:ext cx="6629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How are tornadoes formed?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ornadoes are formed from powerful thunderstorms as rotating funnel shaped clouds!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38" name="" descr=""/>
          <p:cNvPicPr/>
          <p:nvPr/>
        </p:nvPicPr>
        <p:blipFill>
          <a:blip r:embed="rId1"/>
          <a:stretch/>
        </p:blipFill>
        <p:spPr>
          <a:xfrm>
            <a:off x="1600200" y="3276720"/>
            <a:ext cx="7238880" cy="35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a6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6e3aa"/>
                </a:solidFill>
                <a:latin typeface="Garamond"/>
              </a:rPr>
              <a:t>What effects do tornadoes have on us?</a:t>
            </a:r>
            <a:endParaRPr b="1" lang="en-US" sz="40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y  cause damage when they touch state is at some risk!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541" name="" descr=""/>
          <p:cNvPicPr/>
          <p:nvPr/>
        </p:nvPicPr>
        <p:blipFill>
          <a:blip r:embed="rId1"/>
          <a:stretch/>
        </p:blipFill>
        <p:spPr>
          <a:xfrm>
            <a:off x="1066680" y="2590920"/>
            <a:ext cx="685800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How strong are tornadoes? 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4" name="" descr=""/>
          <p:cNvPicPr/>
          <p:nvPr/>
        </p:nvPicPr>
        <p:blipFill>
          <a:blip r:embed="rId1"/>
          <a:stretch/>
        </p:blipFill>
        <p:spPr>
          <a:xfrm>
            <a:off x="0" y="114300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When  do tornadoes occur?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mostly occur in march and  may from 3 p.m to 9 p.m 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7" name="" descr=""/>
          <p:cNvPicPr/>
          <p:nvPr/>
        </p:nvPicPr>
        <p:blipFill>
          <a:blip r:embed="rId1"/>
          <a:stretch/>
        </p:blipFill>
        <p:spPr>
          <a:xfrm>
            <a:off x="3505320" y="3152880"/>
            <a:ext cx="3886200" cy="370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ahoma"/>
              </a:rPr>
              <a:t>Where do tornadoes occur the most? </a:t>
            </a: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occur mostly in Tornado Ally. Tornado Ally is located in the areas which include parts of Texas, Oklahoma, Kansas, and Nebraska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50" name="" descr=""/>
          <p:cNvPicPr/>
          <p:nvPr/>
        </p:nvPicPr>
        <p:blipFill>
          <a:blip r:embed="rId1"/>
          <a:stretch/>
        </p:blipFill>
        <p:spPr>
          <a:xfrm>
            <a:off x="2666880" y="3581280"/>
            <a:ext cx="4496040" cy="31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5T15:45:18Z</dcterms:created>
  <dc:creator>Neo</dc:creator>
  <dc:description/>
  <dc:language>en-US</dc:language>
  <cp:lastModifiedBy>Neo</cp:lastModifiedBy>
  <dcterms:modified xsi:type="dcterms:W3CDTF">2010-02-03T17:33:36Z</dcterms:modified>
  <cp:revision>5</cp:revision>
  <dc:subject/>
  <dc:title>Dangerous tornadoes! </dc:title>
</cp:coreProperties>
</file>